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B40-D08E-4700-BAF9-4FAD681F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DAF-6F97-44FF-B460-890C8336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5435-5E14-4F58-9582-15DDDAC8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892-F381-4428-85F0-A53A3076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435-7C7F-4003-9591-234AF02A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229-BAD4-4E6E-A1EB-593A0E91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0191-E088-407C-B2D3-4C8CD545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1C5-9C75-4472-BF44-07437C11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67D-EBC0-4F00-9DF9-AC5DEE10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116-ECC1-412C-B19B-988730B6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BA3-417E-483E-BA18-E78E9ED7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720-C746-4CA9-A890-1CDB613F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431E-B32C-4C12-B1CC-3684CEA52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7:20:55Z</dcterms:created>
  <dc:creator>Grupo Editorial</dc:creator>
  <dc:description/>
  <dc:language>en-US</dc:language>
  <cp:lastModifiedBy>Grupo Editorial</cp:lastModifiedBy>
  <dcterms:modified xsi:type="dcterms:W3CDTF">2001-11-14T17:23:56Z</dcterms:modified>
  <cp:revision>1</cp:revision>
  <dc:subject/>
  <dc:title>Sin título de diapositiva</dc:title>
</cp:coreProperties>
</file>